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4650-D080-4767-9AB1-355E2839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218C-030D-4FD8-B396-77E99773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92C-B43C-4827-A20A-55136AA0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BB99-1CC6-486F-B313-701C8DF7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0415-EC75-49D3-AF91-44A93DD2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1890-3814-460B-9023-4EFC9321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CCE0-DD36-4AE4-979C-8D0C9289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1962-BA35-4CC3-A23A-90909A46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0C1D-947D-4889-91BA-A3A49519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A7AB-B75C-4957-ACE2-335E0A2D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C13F-C40A-481D-9E1D-9C16A07C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54B2-9761-4576-9D14-352279C0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5405-8273-4E38-83F5-06944C19F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chool-wires.wikispaces.com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e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086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School Wires Calendar to keep your students and their parents up-to-date with classroom events and assign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return to the wik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on “New P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6320" y="1976400"/>
            <a:ext cx="9220320" cy="4881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0080" y="3198960"/>
            <a:ext cx="98748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Calenda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4800600"/>
            <a:ext cx="144468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your page, then click “Sav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12960" y="4113360"/>
            <a:ext cx="1144440" cy="1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4267080"/>
            <a:ext cx="685800" cy="3841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ose your calendar from the page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1600" y="5257800"/>
            <a:ext cx="6094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5105520"/>
            <a:ext cx="838080" cy="3045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the “New Event” t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514600"/>
            <a:ext cx="83844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lect the date, “Event Title”, et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811160"/>
            <a:ext cx="9144000" cy="504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90720" y="3124080"/>
            <a:ext cx="11430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267080" y="2514600"/>
            <a:ext cx="1067040" cy="5335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791320" y="3124080"/>
            <a:ext cx="1676160" cy="1219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6019920"/>
            <a:ext cx="990720" cy="5331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r event will show up on the calend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733920" y="5334120"/>
            <a:ext cx="1371600" cy="6094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“Home” to return to your page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2743200"/>
            <a:ext cx="457200" cy="3808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6320" y="2057400"/>
            <a:ext cx="8991360" cy="4761000"/>
            <a:chOff x="76320" y="2057400"/>
            <a:chExt cx="8991360" cy="476100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76320" y="2057400"/>
              <a:ext cx="899136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76320" y="2057400"/>
              <a:ext cx="8991360" cy="476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828800" y="3048120"/>
            <a:ext cx="457200" cy="3808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2:48:47Z</dcterms:created>
  <dc:creator>%$#@1</dc:creator>
  <dc:description/>
  <dc:language>en-US</dc:language>
  <cp:lastModifiedBy>%$#@1</cp:lastModifiedBy>
  <dcterms:modified xsi:type="dcterms:W3CDTF">2010-04-27T02:54:05Z</dcterms:modified>
  <cp:revision>2</cp:revision>
  <dc:subject/>
  <dc:title>Calendar</dc:title>
</cp:coreProperties>
</file>